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AF22-ED8C-47CD-9443-2308CE236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FD9A-0379-41D4-B0B7-83EDD1352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46C1-8BE8-4F3C-8CCF-DEA7E2728B01}" type="slidenum">
              <a:rPr b="0" lang="en-US" sz="1200" spc="-1" strike="noStrike">
                <a:solidFill>
                  <a:srgbClr val="3161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C43-D409-43E2-8078-AF092EA1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123-3DDE-4144-A487-B34D30FA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5E9B2-921A-4D49-A8AC-A1CEDD2D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95E03-735C-453B-A21D-1FDC6A4F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1BE44-A9FA-413E-9051-14D35FDD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0889C-7394-4566-A243-56C813D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14C37-9A2E-4594-BE3C-739C9B4C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BF16C-02BB-47E3-A8FC-F827C880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32628-4D89-4F04-8CA4-3458E68E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B97ED-B1A3-4A51-B097-9C2F9FAC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BFE46-8CF8-4B43-B448-D1CB2A41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BEB2D-37C6-4C64-8AC4-856F1D18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F1A-CB5D-4B23-AC91-ACFC171F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81E0C-9ADF-4E6B-B4C3-AD028473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4178D-6278-4537-BE2B-737DAAF9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B54EB-1E80-4D5C-B30C-E632AFFA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D7094-4907-4748-A2C0-6F9109FA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998BF-9E83-4991-87D9-FB0B03DC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54AE9-602E-42EB-B02A-0F0993C5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42D94-10CC-4A3E-B2BE-6914944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90003-3AC0-4894-BDEA-2CF2ACA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3540A-E342-4A5E-B8AA-04F9BBDE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69D61-87D7-43FC-A9CA-45C0A844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3B4-E258-4CF2-9058-0F618ABC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2DB7F-2DD6-4966-8AE0-C1E7F602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7519-87A9-48EA-A130-BB296F47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9D187-C250-4A36-8B8D-A59E95C3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69715-CC19-4416-89BC-4F8B033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F2581-7B0E-48A7-B391-1A6BA8B4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90392-1287-49F8-B193-59549AE1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58F03-B8F3-4CFC-9D8C-102DC8ED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A6A66-179F-419F-960D-3B1C2765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7EACB-40F4-4B76-95B1-B4BD925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F5D1A-4FEB-495A-8AE9-91523363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4C46-4D15-4C81-8B59-81996743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1493E-F8BE-4ABC-AE54-30EB6A00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56172-EC0C-4D5B-82C2-0CB32055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04AFD-DEB7-46C4-A1AE-245ED746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367F8-16E8-4D12-B54B-0298CBAA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BF0A7-757A-470D-898A-DEF8F341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56B25-FB15-4B1C-A0EA-DF35B656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B618C-3E22-457B-A951-31E2CB7A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77661-C27B-4E39-B5C8-957E31AC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9592C-D195-4D9D-BDE8-B05078CB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39128-6129-4E73-8F1D-06704239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58B6-76BB-4AA0-A4D0-54CAF457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5B9DE-2F65-418B-86B7-D037C8E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A0428-21D1-45CB-9E3E-22B3331A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E306F-C9E2-4C8B-87E6-BE370607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51A0F-655D-4869-A831-3704E7B1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30CAA-4FB2-4A6E-AD10-0F2E5D74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7E4E-D13F-4097-B0B3-73347AE3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4A9F-293E-4225-B94B-E061FFD9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C007-2BA4-4962-98BD-F685829C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8F57-9F6A-487C-B7A2-C499809A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C421-31ED-4266-9491-4E643F4F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617-A9AA-4531-A308-6D1380E0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6AB0-BC3B-4644-8695-482A1E22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E04D-B883-40EE-98B4-F4B0EFD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E2F1-61D3-4A16-BC62-AED77B57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F86C-D6ED-4C67-BA71-BCC4488F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E7A0-3851-425C-8A8C-98829F2A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420A-02BC-4AD7-97E1-5B51CEE5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F4F9-4766-449E-937C-69867369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B048-4BED-4EC6-9763-C60AE9BB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0036-69C1-4500-AC8B-D99213FB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5F59-6559-4349-9F59-BCAD7653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E02-8891-4F52-8A68-F4771FAD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2988-9F3C-409F-ADA2-9C40FC0F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EAF0-AF94-4490-863F-38817DEA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74E9-EA75-4CF0-9415-7E7ADF6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DFFF-BF94-4590-B6EB-05C47B9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A324-D3DE-471F-82A6-4A27E8D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11D3-DCDD-4804-91CE-7D9D7A22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AD6D-2FE9-408E-AD66-8FD44DA4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F3C2-84CA-42B5-9816-30FF47E7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E13F6-5FF7-472A-A339-D9B52CE9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D46E-37D5-4529-AC41-CC1903F8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FD8-13B9-4CC5-99F9-396518BA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69D9-9694-484F-992E-AC7DA3A1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6648B-6886-4B69-976A-84B74460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06EB-40DD-4349-A488-1E08A244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A47A-990C-4211-8FFD-D9307A1C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FF0A-5140-441F-B848-B7BDE64F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13E21-89B5-4C34-8E5A-3A12760C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CA2E-06DE-4369-8FC9-AD018FB0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7920-3087-45DC-B45A-00C96C0C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64CD1-8D1C-44E2-BB9E-6B7075E1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84181-E477-47A2-8EFE-1A1910D7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22E-9CBC-4AD8-B0AC-360E6DB8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8BFE-62C0-45AC-9F8C-FDF2810A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A2908-C069-4906-AC61-0007F3B8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C66E-5C5E-424C-A183-4E653C2F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AD69C-457E-4864-BDF8-D7579C1E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5D1C-A7DE-4B1A-AF74-E4E55F8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79AD-EBEF-4B75-9DF2-E624D42B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3558D-D51E-4833-AE4C-C59E387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48066-FDCB-4C04-B82A-6001262A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69891-8124-4777-AE09-5DABCC0B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2604C-445C-498F-8602-F7BFD555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7C9-EFB9-4C4A-823A-C6213920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5F24E-A01E-462F-B0FC-FD004763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C9093-66DD-4932-AB9E-5D0FE2BD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39EBC-AB47-4712-9273-E1BAFDB8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11A31-8525-4320-A775-07F0C07F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BFCFD-0EED-47B5-AF00-593DBA64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AA1D2-8FCF-4772-9FE7-80245C68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3F91A-19BC-40E3-A7DF-889322CE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5E973-452B-4474-B735-1DC83C59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BB0C6-872F-460C-B82F-3447E45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1CABB-A2EA-48A9-AB7A-CF7717D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E17-87C8-44FC-BAFC-4622564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379F-81D0-4D32-87B5-A60AE4AC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06032-F12E-4070-BC61-F1263093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100B-1B8D-4907-8AE0-7B71F916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0880D-FEAF-4923-8F3D-6E4A7546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3173D-EB46-4F4E-B503-1C417F86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BDA61-B708-4432-9258-FDD634B2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11B75-C492-4C1C-8758-7F15A4C9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290DB-AFCB-4D18-87AE-26B700AF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07B41-BE89-461F-92B9-90111E43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3A04-262B-4A6D-9CF3-77BED53B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8EB-ABB1-479E-8FEC-2564689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F4331-C9EB-4B85-B07B-DE38B43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BB88-92FD-40F1-8D68-893E43C9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9035-8270-4F9D-9BB5-8E51FD9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87F7C-23FF-4542-BC2C-2066C6D4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45235-48D0-4E3E-AE9A-2DE058A9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9D19C-D60E-4863-B146-62BC2BB6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9F0F1-3708-4148-B616-F442FA3C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E412C-1DC9-440E-A69D-D5F06AE5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9089A-D8E2-4660-89C1-F4DB81EC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240EC-3F0B-4834-A4FC-1A770D85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320-4AC2-4164-ADE8-A0A556B8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F24F6-D8BD-436F-AD5B-75093C5B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04111-CFA0-4AC6-BD67-E035A813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07D1-D8B8-4179-8D9F-1917F03C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9F440-6DB5-4E6E-8B1C-8BB75561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D6BB3-F299-49E4-A1EF-BE5D6477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1820A-D63C-400B-9EF3-44CC83D6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23BEF-60AA-4861-9C6D-382803EA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53309-E9BE-43AB-B8D7-60AD52E9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28524-F5D2-45D6-9963-837AD4C3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1D600-2635-4DAD-A44B-61FBD590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5202-DE1C-4F61-987F-8C7B8712E6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82E7-AA77-4E18-AF04-2A2D250261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15B7-9417-4596-8DBE-D5CB650D06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61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B529-0D37-40EE-A559-5BE896EE3839}" type="slidenum">
              <a:rPr b="0" lang="en-US" sz="1000" spc="-1" strike="noStrike">
                <a:solidFill>
                  <a:srgbClr val="3161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D910-F1DD-400F-9A18-2CCFE3811DCA}" type="slidenum">
              <a:rPr b="0" lang="en-US" sz="1000" spc="-1" strike="noStrike">
                <a:solidFill>
                  <a:srgbClr val="c4ddc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AA53-6F39-4D39-8B14-D961E6881D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516A-ACA1-46A6-9313-FCEC26520E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407A-5A76-4432-8264-7A32B37461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0887-7CD0-494A-A61D-EA0959BFDA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845C-4971-4B6D-9364-05E1D6AE80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BBE5-F2D1-4590-885B-F722807632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2503-EFBC-40C1-B923-3078B93133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69680"/>
            <a:ext cx="7772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4ddc3"/>
                </a:solidFill>
                <a:latin typeface="Arial Black"/>
              </a:rPr>
              <a:t>Area and </a:t>
            </a:r>
            <a:r>
              <a:rPr b="1" lang="en-US" sz="9000" spc="-1" strike="noStrike">
                <a:solidFill>
                  <a:srgbClr val="c4ddc3"/>
                </a:solidFill>
                <a:latin typeface="Arial Black"/>
              </a:rPr>
              <a:t>Perimeter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863680" y="5181480"/>
            <a:ext cx="2814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612d"/>
                </a:solidFill>
                <a:latin typeface="Times New Roman"/>
              </a:rPr>
              <a:t>By Christine Berg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612d"/>
                </a:solidFill>
                <a:latin typeface="Times New Roman"/>
              </a:rPr>
              <a:t>Edited by V T Hamilton</a:t>
            </a:r>
            <a:endParaRPr b="0" lang="en-US" sz="2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rectangle becomes a parallelogram so the formula is the similar to a rectangle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A=bh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area of a triangle is one half of the length of the base times the height since a triangle is half of a parallelogram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30" name="AutoShape 4"/>
          <p:cNvSpPr/>
          <p:nvPr/>
        </p:nvSpPr>
        <p:spPr>
          <a:xfrm rot="10771200">
            <a:off x="1980720" y="3276720"/>
            <a:ext cx="1905120" cy="1828800"/>
          </a:xfrm>
          <a:prstGeom prst="rtTriangle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1905120" y="3276720"/>
            <a:ext cx="1904760" cy="1828800"/>
          </a:xfrm>
          <a:prstGeom prst="rtTriangle">
            <a:avLst/>
          </a:prstGeom>
          <a:solidFill>
            <a:srgbClr val="8b1003"/>
          </a:solidFill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372680" y="3962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1523880" y="434340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 flipV="1">
            <a:off x="1523880" y="320004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 flipH="1" flipV="1">
            <a:off x="1904760" y="5253840"/>
            <a:ext cx="609480" cy="504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6" name="Line 15"/>
          <p:cNvSpPr/>
          <p:nvPr/>
        </p:nvSpPr>
        <p:spPr>
          <a:xfrm>
            <a:off x="3048120" y="5257800"/>
            <a:ext cx="761760" cy="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2515680" y="5105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5318280" y="3032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4114800" y="1600200"/>
            <a:ext cx="4822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square is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4 times 4 or 16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</a:t>
            </a:r>
            <a:r>
              <a:rPr b="0" lang="en-US" sz="4000" spc="-1" strike="noStrike">
                <a:solidFill>
                  <a:srgbClr val="8b1003"/>
                </a:solidFill>
                <a:latin typeface="Times New Roman"/>
              </a:rPr>
              <a:t>triangle</a:t>
            </a: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 is one-half 16, or 8 sq.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b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(4)(4)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8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erimeter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sum of the   lengths of </a:t>
            </a:r>
            <a:r>
              <a:rPr b="0" lang="en-US" sz="6500" spc="-1" strike="noStrike" u="sng">
                <a:solidFill>
                  <a:srgbClr val="31612d"/>
                </a:solidFill>
                <a:uFillTx/>
                <a:latin typeface="Arial"/>
              </a:rPr>
              <a:t>all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sides of the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number of  square units inside a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61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Calculating </a:t>
            </a:r>
            <a:br>
              <a:rPr sz="9000"/>
            </a:b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bbreviations: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 = Area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l=leng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w=wid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b = base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h = height 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AREA MEASUREMEN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We measure area in square inches.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llow up each of your measurements with the following abbreviation: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1612d"/>
                </a:solidFill>
                <a:latin typeface="Arial"/>
              </a:rPr>
              <a:t>25 </a:t>
            </a: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Sq. in </a:t>
            </a:r>
            <a:endParaRPr b="0" lang="en-US" sz="5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o find the area multiply the length times the width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1612d"/>
                </a:solidFill>
                <a:latin typeface="Arial"/>
              </a:rPr>
              <a:t>A = lw</a:t>
            </a:r>
            <a:endParaRPr b="0" lang="en-US" sz="10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9360">
            <a:solidFill>
              <a:srgbClr val="01030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Draw a rectangle on graph paper. Cut off a </a:t>
            </a:r>
            <a:r>
              <a:rPr b="0" lang="en-US" sz="5500" spc="-1" strike="noStrike">
                <a:solidFill>
                  <a:srgbClr val="31612d"/>
                </a:solidFill>
                <a:latin typeface="Arial"/>
              </a:rPr>
              <a:t>triangle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on one side and add it to the other. 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8380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35812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 flipV="1">
            <a:off x="3581280" y="5791320"/>
            <a:ext cx="60984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 flipV="1">
            <a:off x="5486400" y="5791320"/>
            <a:ext cx="60948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5486400" y="5791320"/>
            <a:ext cx="609480" cy="0"/>
          </a:xfrm>
          <a:prstGeom prst="line">
            <a:avLst/>
          </a:prstGeom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1" name="AutoShape 13"/>
          <p:cNvSpPr/>
          <p:nvPr/>
        </p:nvSpPr>
        <p:spPr>
          <a:xfrm>
            <a:off x="6324480" y="5791320"/>
            <a:ext cx="2514600" cy="914400"/>
          </a:xfrm>
          <a:prstGeom prst="parallelogram">
            <a:avLst>
              <a:gd name="adj" fmla="val 68750"/>
            </a:avLst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595440" y="539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32785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66312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2-17T17:17:42Z</dcterms:created>
  <dc:creator>NNPS</dc:creator>
  <dc:description/>
  <dc:language>en-US</dc:language>
  <cp:lastModifiedBy>bethany.jackson</cp:lastModifiedBy>
  <cp:lastPrinted>2012-02-01T21:38:11Z</cp:lastPrinted>
  <dcterms:modified xsi:type="dcterms:W3CDTF">2012-02-08T22:24:05Z</dcterms:modified>
  <cp:revision>9</cp:revision>
  <dc:subject/>
  <dc:title>Area and Perimeter</dc:title>
</cp:coreProperties>
</file>